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42E-B5DF-4ACD-B8BC-F592498F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E90-351E-4837-B712-FF8DD5A4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9E71-A254-4A62-9F24-DD337BF5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8131-EEAB-45F7-9C37-166C196B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275-9C6F-43C9-BE1D-BDD62CE0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C43-76BA-46EB-8CC3-B3C779D4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103-A650-43FD-AABA-43BCE8E1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1C5-A1B1-479C-B350-1A9C6292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940-A782-483E-B9F3-93206981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76F-1C18-429B-92C2-3C46B5F8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88C-6F34-4D3A-BCC5-3DE33939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45B-B5E1-46C7-BA3A-50287160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29C5-4EEB-4C11-BC52-20187CF30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deal Gas Law @ 2 Sets of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484280"/>
            <a:ext cx="741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 T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060640"/>
            <a:ext cx="662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2924280"/>
            <a:ext cx="896472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les’ Law  -constant Temperature and amount of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 T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941720"/>
            <a:ext cx="8604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’ Law- constant Pressure and amount of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 T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=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V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1      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3645000"/>
            <a:ext cx="6476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365720"/>
            <a:ext cx="6476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3716280"/>
            <a:ext cx="3589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4437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364500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4365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95640" y="414972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5589720"/>
            <a:ext cx="2156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6165720"/>
            <a:ext cx="35892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5589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6237360"/>
            <a:ext cx="21600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5589720"/>
            <a:ext cx="144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6165720"/>
            <a:ext cx="21600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835280" y="580536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79640" y="6021360"/>
            <a:ext cx="1079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378936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950080"/>
            <a:ext cx="1584360" cy="574560"/>
          </a:xfrm>
          <a:prstGeom prst="rightArrow">
            <a:avLst>
              <a:gd name="adj1" fmla="val 50000"/>
              <a:gd name="adj2" fmla="val 68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ylinder contains 3.00 mol of nitrogen at a temp. of 10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and a pressure of 405.2 kPa in a volume of 23.0 L.  If the cylinder is heated to 40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and the volume expands to 50.0 L by moving out a piston, how many mol of nitrogen must be removed in order to lower pressure to 101.3 kP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4581360"/>
            <a:ext cx="741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05.2 k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1.3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5013360"/>
            <a:ext cx="63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3.0 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0.0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5445000"/>
            <a:ext cx="770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00 +273=373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400 +273=673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5877000"/>
            <a:ext cx="691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3.00 m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6308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= 8.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Pa L/mol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=8.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Pa L/mol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 T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405.2 kPa  x 23.0 L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1.3 kPa  x 50.0 L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1 kPa L/mol K x 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x 673 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7240" y="317340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.31 kPa L/mol K  x 3.00 mol x 373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3068640"/>
            <a:ext cx="79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720" y="321300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3141720"/>
            <a:ext cx="6490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3141720"/>
            <a:ext cx="36036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7280" y="3284640"/>
            <a:ext cx="144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8459640" y="3213000"/>
            <a:ext cx="216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292640"/>
            <a:ext cx="813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72090.8  x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=  566773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76360" y="5013360"/>
            <a:ext cx="439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9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734080"/>
            <a:ext cx="2017440" cy="719280"/>
          </a:xfrm>
          <a:prstGeom prst="rightArrow">
            <a:avLst>
              <a:gd name="adj1" fmla="val 50000"/>
              <a:gd name="adj2" fmla="val 70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5805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0 m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 0.90 mol = 2.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erage breath that a 16 year old takes when not exercising is about 300 mL in volume at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and 100.0kPa. The respiratory rate is about 20 breathes per minute.  What volume of air at STP does an average 16 year old breathe in one min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76720" y="5950080"/>
            <a:ext cx="3888000" cy="90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7640" y="1989000"/>
            <a:ext cx="302400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 T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3573360"/>
            <a:ext cx="777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0 kPa x 0.3 L  = n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x 8.31 x 293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365720"/>
            <a:ext cx="734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.3 kPa x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8.31  x 273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3573360"/>
            <a:ext cx="433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4437000"/>
            <a:ext cx="576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2781360"/>
            <a:ext cx="360360" cy="792000"/>
          </a:xfrm>
          <a:prstGeom prst="downArrow">
            <a:avLst>
              <a:gd name="adj1" fmla="val 50000"/>
              <a:gd name="adj2" fmla="val 54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56000" y="2133720"/>
            <a:ext cx="32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moles does no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364500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29264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5229360"/>
            <a:ext cx="70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0  L    = 29680.9 x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734080"/>
            <a:ext cx="73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8L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190 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68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5877000"/>
            <a:ext cx="39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 x 0.28= 5.6 breathes per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01:09:40Z</dcterms:created>
  <dc:creator> </dc:creator>
  <dc:description/>
  <dc:language>en-US</dc:language>
  <cp:lastModifiedBy> </cp:lastModifiedBy>
  <dcterms:modified xsi:type="dcterms:W3CDTF">2005-06-03T02:26:50Z</dcterms:modified>
  <cp:revision>2</cp:revision>
  <dc:subject/>
  <dc:title>The Ideal Gas Law @ 2 Sets of Conditions</dc:title>
</cp:coreProperties>
</file>